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D49E-BF89-4693-944A-1E0759EE27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5637-5934-4E47-BCDB-9A8074B542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54E-B8A4-47C4-9D65-171B7093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ECD-2B56-4961-8EE8-0258F7F2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2CE-F328-4C52-BF9E-9F99F665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BBB-C119-4CC9-9D8B-B144CFD8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00D-ACCC-4A3E-8768-3A08E49F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F6D-C4D1-4AFF-9B99-24442589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806-D912-45D7-B15C-1DF452BA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422-C1AC-4387-BAB0-436EC496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30F-2AC8-4253-8C28-1AF43EB8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EDD-488C-45E7-B894-3FE110DB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D05-54ED-4FBB-9CBB-BE91766B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2DA-7B8F-4A01-BBD6-DE65A056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A289-9061-452A-A057-01978C8D1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0/Yellow_finch_1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zootorg.com/images/normal/125379.jpg" TargetMode="External"/><Relationship Id="rId4" Type="http://schemas.openxmlformats.org/officeDocument/2006/relationships/image" Target="../media/image14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3/passerammodendri.0/0_85bf_8fefb730_XL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upload.wikimedia.org/wikipedia/commons/0/07/Paxaro_GDFL26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upload.wikimedia.org/wikipedia/commons/7/76/Zebra_finch_female.JPG" TargetMode="External"/><Relationship Id="rId6" Type="http://schemas.openxmlformats.org/officeDocument/2006/relationships/image" Target="../media/image17.jpeg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f/Budgerigar_map.png" TargetMode="External"/><Relationship Id="rId3" Type="http://schemas.openxmlformats.org/officeDocument/2006/relationships/image" Target="../media/image18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rmvelikaya.ru/wp-content/gallery/pets/20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deladoma.ru/images/stories/statyi/domashnie-zhivotnue/Melopsittacus-undulatus2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g0.liveinternet.ru/images/foto/b/0/apps/1/0/1000044_x_5a5ac06e.jpg" TargetMode="External"/><Relationship Id="rId7" Type="http://schemas.openxmlformats.org/officeDocument/2006/relationships/image" Target="../media/image21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9/Wellensittich02.jpg" TargetMode="External"/><Relationship Id="rId3" Type="http://schemas.openxmlformats.org/officeDocument/2006/relationships/image" Target="../media/image3.jpeg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3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http://historic-cities.ru/UserFiles/Image/82398/lm_indon.gif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http://ru.wikipedia.org/wiki/&#1060;&#1072;&#1081;&#1083;:Zebrafinchchicks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hyperlink" Target="http://upload.wikimedia.org/wikipedia/commons/c/ca/JavaLocatie-1-.png" TargetMode="External"/><Relationship Id="rId4" Type="http://schemas.openxmlformats.org/officeDocument/2006/relationships/image" Target="../media/image29.png"/><Relationship Id="rId5" Type="http://schemas.openxmlformats.org/officeDocument/2006/relationships/hyperlink" Target="http://ru.wikipedia.org/wiki/&#1060;&#1072;&#1081;&#1083;:Indonesia_(orthographic_projection).svg" TargetMode="External"/><Relationship Id="rId6" Type="http://schemas.openxmlformats.org/officeDocument/2006/relationships/image" Target="../media/image30.png"/><Relationship Id="rId7" Type="http://schemas.openxmlformats.org/officeDocument/2006/relationships/hyperlink" Target="http://ru.wikipedia.org/wiki/&#1060;&#1072;&#1081;&#1083;:Bali_Labeled.png" TargetMode="Externa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rds.net.ua/media/gallery/images/13_________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file:///H:/&#1087;&#1088;&#1086;&#1080;&#1089;&#1093;&#1086;&#1078;&#1076;&#1077;&#1085;&#1080;&#1077;.pptx" TargetMode="Externa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miart.ru/forum/journal_uploads/j7116_1233387687.jpg" TargetMode="External"/><Relationship Id="rId2" Type="http://schemas.openxmlformats.org/officeDocument/2006/relationships/image" Target="../media/image7.jpeg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9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28.xml"/><Relationship Id="rId9" Type="http://schemas.openxmlformats.org/officeDocument/2006/relationships/slide" Target="slide30.xml"/><Relationship Id="rId10" Type="http://schemas.openxmlformats.org/officeDocument/2006/relationships/slide" Target="slide30.xml"/><Relationship Id="rId11" Type="http://schemas.openxmlformats.org/officeDocument/2006/relationships/slide" Target="slide31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wiki/66/Buberel_Unknown_bird_3.jpg" TargetMode="External"/><Relationship Id="rId2" Type="http://schemas.openxmlformats.org/officeDocument/2006/relationships/image" Target="../media/image9.jpeg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5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6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6" descr=""/>
          <p:cNvPicPr/>
          <p:nvPr/>
        </p:nvPicPr>
        <p:blipFill>
          <a:blip r:embed="rId2"/>
          <a:stretch/>
        </p:blipFill>
        <p:spPr>
          <a:xfrm>
            <a:off x="658800" y="1547640"/>
            <a:ext cx="81612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Файл:Yellow finch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916280"/>
            <a:ext cx="3948120" cy="315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Картинка 61 из 1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125360"/>
            <a:ext cx="3024360" cy="4476960"/>
          </a:xfrm>
          <a:prstGeom prst="rect">
            <a:avLst/>
          </a:prstGeom>
          <a:ln w="0">
            <a:noFill/>
          </a:ln>
        </p:spPr>
      </p:pic>
      <p:sp>
        <p:nvSpPr>
          <p:cNvPr id="96" name="Стрелка влево 3">
            <a:hlinkClick r:id="rId5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Картинка 1 из 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328608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Файл:Paxaro GDFL2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86240" y="3357720"/>
            <a:ext cx="3376800" cy="2533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Файл:Zebra finch femal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0200" y="214200"/>
            <a:ext cx="4170600" cy="2778120"/>
          </a:xfrm>
          <a:prstGeom prst="rect">
            <a:avLst/>
          </a:prstGeom>
          <a:ln w="0">
            <a:noFill/>
          </a:ln>
        </p:spPr>
      </p:pic>
      <p:sp>
        <p:nvSpPr>
          <p:cNvPr id="100" name="Стрелка влево 4">
            <a:hlinkClick r:id="rId7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Файл:Budgerigar map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052640"/>
            <a:ext cx="7345080" cy="438948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лево 4">
            <a:hlinkClick r:id="rId4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Картинка 23 из 38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920" y="428760"/>
            <a:ext cx="2097000" cy="3141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Картинка 122 из 2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85880" y="3286080"/>
            <a:ext cx="3529080" cy="2693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Картинка 14 из 388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43680" y="3286080"/>
            <a:ext cx="3655800" cy="274320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лево 5">
            <a:hlinkClick r:id="rId8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642960" y="18572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: 17—19,8 с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 крыла — 9,3— 9,4 с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воста — 8—10 см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40—45 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лево 5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357120" y="257184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жизни попугаев в среднем 10-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лево 3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928800" y="1214280"/>
            <a:ext cx="7572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 Н. Норден (A. N. Norden) в 1959 году исследовал зоб свободноживущих попугайчиков. При этом выяснилось, что основной пищей волнистых попугайчиков является травянистая растительность. Однако более поздние исследования доказали, что волнистые попугайчики питаются и насеком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лево 5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6" descr=""/>
          <p:cNvPicPr/>
          <p:nvPr/>
        </p:nvPicPr>
        <p:blipFill>
          <a:blip r:embed="rId3"/>
          <a:stretch/>
        </p:blipFill>
        <p:spPr>
          <a:xfrm>
            <a:off x="853920" y="1828800"/>
            <a:ext cx="77407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1214280" y="1714680"/>
            <a:ext cx="7072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а откладывает 4-6 белых яиц, прямо на дно дупла без подстилки и насиживает их в течение 18-20 дней. Самец в это время подкармливает её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714240" y="1285920"/>
            <a:ext cx="7929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паривания, обычно выбирают попугайчиков одного возраста, но можно и разного возраста. Оперение может быть любого цвета. Тем лучше если попугайчики жили в паре не мало времени. Попугайчики могут размножаться до 5 лет. Они размножаются когда у них есть желания и домик. Зрелый возраст у попугайчика 1 год. Без домика попугайчики не размножаются и яйца не откладыв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Файл:Wellensittich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76280"/>
            <a:ext cx="3800160" cy="5705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7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роисхождение</a:t>
            </a:r>
            <a:r>
              <a:rPr b="0" lang="en-US" sz="1800" spc="-1" strike="noStrike">
                <a:solidFill>
                  <a:srgbClr val="677f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8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Раз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9"/>
          <p:cNvSpPr/>
          <p:nvPr/>
        </p:nvSpPr>
        <p:spPr>
          <a:xfrm>
            <a:off x="4716360" y="1341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а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0"/>
          <p:cNvSpPr/>
          <p:nvPr/>
        </p:nvSpPr>
        <p:spPr>
          <a:xfrm>
            <a:off x="4716360" y="1844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1"/>
          <p:cNvSpPr/>
          <p:nvPr/>
        </p:nvSpPr>
        <p:spPr>
          <a:xfrm>
            <a:off x="4716360" y="2349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2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3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4"/>
          <p:cNvSpPr/>
          <p:nvPr/>
        </p:nvSpPr>
        <p:spPr>
          <a:xfrm>
            <a:off x="4716360" y="3716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5"/>
          <p:cNvSpPr/>
          <p:nvPr/>
        </p:nvSpPr>
        <p:spPr>
          <a:xfrm>
            <a:off x="4716360" y="4221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6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Canarias-rotulado.png"/>
          <p:cNvPicPr/>
          <p:nvPr/>
        </p:nvPicPr>
        <p:blipFill>
          <a:blip r:embed="rId2"/>
          <a:stretch/>
        </p:blipFill>
        <p:spPr>
          <a:xfrm>
            <a:off x="755640" y="260280"/>
            <a:ext cx="4889520" cy="1968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55 из 770"/>
          <p:cNvPicPr/>
          <p:nvPr/>
        </p:nvPicPr>
        <p:blipFill>
          <a:blip r:embed="rId3"/>
          <a:stretch/>
        </p:blipFill>
        <p:spPr>
          <a:xfrm>
            <a:off x="4284720" y="2421000"/>
            <a:ext cx="4429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071720" y="1214280"/>
            <a:ext cx="7429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комнатной канарейки составляет 12−14 с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й вид несколько меньше домашней формы:12—13 см длино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85960" y="1000080"/>
            <a:ext cx="5857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уходе и сбалансированном кормлении продолжительность жизни канарейки составляет 10-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714240" y="1143000"/>
            <a:ext cx="77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ется почти исключительно растительной пищей: мелкими семенами, нежной зеленью и сочными плодам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857160" y="857160"/>
            <a:ext cx="7572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стройке своих изящных гнёзд дикие канарейки приступают в марте и кладут обыкновенно пять бледно-голубовато-зеленоватых яиц. Насиживание продолжается, как и у домашней - 13 д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95280" y="260280"/>
            <a:ext cx="4608360" cy="3062520"/>
            <a:chOff x="395280" y="260280"/>
            <a:chExt cx="4608360" cy="3062520"/>
          </a:xfrm>
        </p:grpSpPr>
        <p:pic>
          <p:nvPicPr>
            <p:cNvPr id="132" name="" descr="Файл:Carduelis spinus 2 tom (Marek Szczepanek).jpg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4608360" cy="30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00360" y="2565360"/>
              <a:ext cx="215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Чиж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003640" y="3365640"/>
            <a:ext cx="3660840" cy="3163680"/>
            <a:chOff x="5003640" y="3365640"/>
            <a:chExt cx="3660840" cy="3163680"/>
          </a:xfrm>
        </p:grpSpPr>
        <p:pic>
          <p:nvPicPr>
            <p:cNvPr id="135" name="" descr="Файл:De Stieglitz lat Carduelis carduelis.jpg"/>
            <p:cNvPicPr/>
            <p:nvPr/>
          </p:nvPicPr>
          <p:blipFill>
            <a:blip r:embed="rId3"/>
            <a:stretch/>
          </p:blipFill>
          <p:spPr>
            <a:xfrm>
              <a:off x="5003640" y="3365640"/>
              <a:ext cx="3660840" cy="31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77080" y="364500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Щего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Стрелка влево 3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Картинка 83 из 4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620640"/>
            <a:ext cx="68007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714240" y="1714680"/>
            <a:ext cx="8072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птицы около 10 с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000080" y="1214280"/>
            <a:ext cx="7572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жизни в дикой природе 5 — 10 лет. Максимальная зарегистрированная продолжительность жизни — до 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857160" y="2286000"/>
            <a:ext cx="75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ются мелкими семенами расте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2" descr=""/>
          <p:cNvPicPr/>
          <p:nvPr/>
        </p:nvPicPr>
        <p:blipFill>
          <a:blip r:embed="rId1"/>
          <a:stretch/>
        </p:blipFill>
        <p:spPr>
          <a:xfrm>
            <a:off x="774720" y="2120760"/>
            <a:ext cx="757080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2" descr="http://upload.wikimedia.org/wikipedia/commons/thumb/b/b9/Zebrafinchchicks.jpg/250px-Zebrafinchchick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14760" y="214200"/>
            <a:ext cx="3857400" cy="3286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1785960" y="392904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кладки 4-6 я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2643120" y="4786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4 яй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000080" y="57168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, зебровых амадин заводят парами. Если вы купили только мальчика или девочку для того чтобы разместить их в одну клетку необходимо сначала где-то с недельку их подержать в отдельных клетках рядом чтобы они попривыкли друг к другу и чтобы при переселении самочки в клетку самца, самец не затоптал самочку до смер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Файл:JavaLocatie-1-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549360"/>
            <a:ext cx="4537080" cy="2087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Indonesia (orthographic projection).sv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3068640"/>
            <a:ext cx="2857320" cy="2867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48360" y="1484280"/>
            <a:ext cx="3671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857160" y="178596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 — 14 с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928800" y="1214280"/>
            <a:ext cx="7358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уходе и кормлении эти птички живут в неволе 7-10 лет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642960" y="1143000"/>
            <a:ext cx="7786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питания рисовка — зерноядная птица, и на своей родине она наносит большой вред рисовым полям. В неволе рисовок следует кормить, как и других представителей семейства астрильдовых, разными сортами проса с добавлением семян канареечного семени и овсяной крупы. В летнее время нужно давать разнообразную зелень: одуванчики, мокрицу, салат, колосья молодого овса и проса. Зимой рисовки будут хорошо поедать слегка пророщенное просо, всходы злаковых растений, листья белокочанной капусты, яблоко, тёртую морковь. В период размножения нужно регулярно давать куриное яйцо, сваренное вкрутую, мучных червей, моты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928800" y="7142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857160" y="1071720"/>
            <a:ext cx="785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размножения пригодны особи не моложе года. В начале рисовки таскают в гнездо толстые травинки, но дальше, им нужен более "мягкий" материал: мелкое сено, мох, увядшие листья, пёрышки. Обычно самка откладывает 4-6 яиц. Насиживают кладку обе птицы, сменяя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 13-14 суток после начала насиживания вылупляются птенцы, а через 30-35 дней (иногда раньше) они покидают гнездо. После вылета из гнезда родители продолжают кормить их ещё 14-18 дней. Когда птенцы начнут самостоятельно питаться, их нужно отсадить. Молодые рисовки окрашены в однотонный серый цвет. Примерно в возрасте 6-8 месяцев молодые птицы приобретают наряд взросл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Картинка 296 из 280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052640"/>
            <a:ext cx="3313080" cy="4817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>
            <a:hlinkClick r:id="rId3"/>
          </p:cNvPr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 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4714920" y="4572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Совместим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493560" y="1725480"/>
            <a:ext cx="815688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Картинка 14 из 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890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Совместим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2" descr=""/>
          <p:cNvPicPr/>
          <p:nvPr/>
        </p:nvPicPr>
        <p:blipFill>
          <a:blip r:embed="rId1"/>
          <a:stretch/>
        </p:blipFill>
        <p:spPr>
          <a:xfrm>
            <a:off x="1530360" y="2120760"/>
            <a:ext cx="608976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Картинка 16 из 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143000"/>
            <a:ext cx="3954600" cy="4475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816"/>
          <p:cNvPicPr/>
          <p:nvPr/>
        </p:nvPicPr>
        <p:blipFill>
          <a:blip r:embed="rId1"/>
          <a:stretch/>
        </p:blipFill>
        <p:spPr>
          <a:xfrm>
            <a:off x="468360" y="765000"/>
            <a:ext cx="3460680" cy="518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815"/>
          <p:cNvPicPr/>
          <p:nvPr/>
        </p:nvPicPr>
        <p:blipFill>
          <a:blip r:embed="rId2"/>
          <a:stretch/>
        </p:blipFill>
        <p:spPr>
          <a:xfrm>
            <a:off x="5214960" y="285840"/>
            <a:ext cx="2255760" cy="338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РИСОВКА"/>
          <p:cNvPicPr/>
          <p:nvPr/>
        </p:nvPicPr>
        <p:blipFill>
          <a:blip r:embed="rId3"/>
          <a:stretch/>
        </p:blipFill>
        <p:spPr>
          <a:xfrm>
            <a:off x="4429080" y="3786120"/>
            <a:ext cx="3857760" cy="2867040"/>
          </a:xfrm>
          <a:prstGeom prst="rect">
            <a:avLst/>
          </a:prstGeom>
          <a:ln w="0">
            <a:noFill/>
          </a:ln>
        </p:spPr>
      </p:pic>
      <p:sp>
        <p:nvSpPr>
          <p:cNvPr id="93" name="Стрелка влево 1">
            <a:hlinkClick r:id="rId4" action="ppaction://hlinksldjump"/>
          </p:cNvPr>
          <p:cNvSpPr/>
          <p:nvPr/>
        </p:nvSpPr>
        <p:spPr>
          <a:xfrm>
            <a:off x="755640" y="623736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6:04:17Z</dcterms:created>
  <dc:creator>студент</dc:creator>
  <dc:description/>
  <dc:language>en-US</dc:language>
  <cp:lastModifiedBy>AUD312</cp:lastModifiedBy>
  <dcterms:modified xsi:type="dcterms:W3CDTF">2010-05-22T09:03:19Z</dcterms:modified>
  <cp:revision>63</cp:revision>
  <dc:subject/>
  <dc:title>Слайд 1</dc:title>
</cp:coreProperties>
</file>